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6547-3B42-435C-9763-03BCB5AE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C7A6-9EA6-4EC2-A720-E63E5F64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51DB5-3AF8-4174-8D64-2385DA09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316DE-3313-486E-9C12-E863D653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BA116-2E46-483A-955C-F00767CF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86E4E-F8B1-49F6-97E1-000FD2AE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493D9-D03D-4949-BCA6-3F29BC7F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EED2E-214F-4AEE-A603-212A13BE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9B8C8-1BDF-44EA-A359-15147F24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4A260-8537-4C5A-891A-19BA8F81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C0CC4-03B8-4741-9C59-80A085FE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F3DC8-65B6-4222-A521-C1B49C37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5B76-D34A-4615-8090-AA36D11A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29996-14DB-42AA-B5A2-20FFA969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033E2-7D02-4CC5-9A37-602C1300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D9FDC-3831-40D2-8CC1-E0476F74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4DADA-69AC-44EE-9094-3337FDBB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1C1F0-CF1D-476E-BCA9-9E82ACBD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4BC9F-7A86-416E-BBB8-F2A88CC0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7668B-5A86-4F52-AEFF-DF795F5A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C35B5-14A0-48A7-8053-719CF2F8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D1C22-C74E-410A-AF57-52180D3D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0EB35-0CCB-40DC-BFDF-91BFE318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E2EF-F5AD-4263-B69C-31CF27A8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06ABA-310C-4BCF-8734-AA5DC6B2A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9A325-BB6B-4150-AEF3-83A67464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BF4E9-1A93-4A36-8754-D75C04E3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15007-4643-4EF4-8A90-DA124937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E6F1E-5840-495B-AF6A-2FECFFFA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98A23-B566-4810-A28E-A95FAC22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179F6-90DF-4B4D-9E6E-4EA313A7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931D6-D026-4556-A05D-2CE90D59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43327-18CA-48F1-A7C9-DBCED3DB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3537C-C659-4920-BE63-BA0255E1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335F-2CDE-4441-878D-FD7E680F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43E28-5B65-4822-9191-B376800A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318B6-F9B9-49E4-BB2D-0D0C87B1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5FA02-80FB-4137-96E7-0EDB6789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0C497-9F83-4494-8DFB-F614A114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4E18C-DA96-4AD1-8CD5-49A761B9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24117-5F7C-4373-8BB9-09A03454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CF6E9-D9AF-4A5B-B1C0-8471C7D8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AD27B-BC32-4EBE-B398-B6684D0A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7C2B1-84A6-4337-AB21-4AB2F777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FCCB6-CAB2-4244-B28D-C003E63D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F339-0FE0-4A85-BB55-68238041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ABE13-012B-4D50-92FB-5DCD14C7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88E6A-964B-461E-8514-073BB699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AA834-A118-4DD0-B01D-0A373F94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F2761-7AB7-4C7F-92FD-61CDA007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01CA8-BF39-47A5-980C-749A9A05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4E1316-0BF0-433E-9145-21C0E3984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D9D08A-2E8B-4A23-B847-7D4EDF4F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DE1B43-3A6D-4670-A22A-806E5652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F23297-14FE-41CD-BDA9-4611413E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79C49F-27A3-4231-B231-AAC6D2F4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CE6F-1A9E-49F7-AB4A-30A4D15B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4E578D-5492-47BA-B834-D9B4C43A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1D40C8-2326-4402-B8B6-2A4A97CF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33D71E-F568-45D0-BDE8-A01D7027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3A0D30-5964-4E67-B2FC-248043FE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358B08-C374-4B0E-B3BC-D131AFBF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4EA7AC-7974-4796-B3AD-129700CE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48A096-95BC-41D9-9C05-63B42175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12F38A-1326-4CF1-A083-749F4BEF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CDF3EA-D796-4B74-BE12-EA39687A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3ACC35-C9F1-40BF-A47C-917D1173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3FB1-ACD5-4605-BC2B-752BAABA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DB1C3E-C510-473B-B506-22411EE1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608121-94DF-4504-BA57-A85BA73D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FC3618-3814-4E81-BB4D-178F9A56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BB6CFF-84AC-4167-A658-7A2CF9A6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B79A37-CC0B-4AEA-A646-E0A2E578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641903-AAFF-4E09-82A6-3FDC8D06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10D997-710E-4B54-B1C9-AAF0CBBC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5F4C03-FEAA-4EB2-BAA4-371ADD5B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A1920F-997C-453C-97A8-38EA1B70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D8A4D5-1930-4017-BEEA-429F5FBA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1049-ABB5-4DB4-90BF-FEA2D17B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98CAF9-EB05-4FCD-95F7-DAC19BAB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7B9730-BD4C-44F4-8BD8-88595DEE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0165DE-F3C7-4363-93EC-3190A6E2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1C719B-027F-4ADF-9789-8CB25201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ADAF32-566A-468D-82D9-0164CF74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CE72B0-B326-49BC-9211-B0500173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7621C6-EAD9-4EE2-B50B-5ACCA0B3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E250FD-F5F2-4537-AA5F-AB59A037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E1F599-0527-4F10-B30C-6541D8A9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0F1408-31E9-4D6D-B20D-E6512D4F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6D47-5F35-4EEA-B5A0-56451F5D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9E7590-F676-458B-A966-B800D89B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A05CC3-D6DC-436B-8D0C-A26DB2F7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095622-1D6E-4C25-A081-8CB0739C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C5D233-0D38-4912-AAD2-371029D4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C0BB01-5D20-4A1B-AD17-FC9E658B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9C7ADE-A436-4AA5-84EC-5C5A6C2D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52AD53-12F5-4F3F-9D4F-00119CD3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F8F988-E9F3-41F2-97D3-7589E1EC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5013F3-FF35-4A55-A39E-8F70CFC7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438E06-6600-4252-A91C-DDE47D42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09E9-8EF8-42A0-9068-E2B868DE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D89714-9833-4B36-BE9D-DD7CB6E1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521286-E22A-4408-BC8E-3D564D08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70C053-1BF4-4712-A8AC-E6399CA4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7BEEED-16E5-4739-9997-8EFE639A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DC69C4-533D-4F42-A785-DC9FB06D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31942C-E18B-42F7-AE7E-57BBEF41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EDDB96-4602-433C-9037-41E335BB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DFDB38-7076-4C16-8807-D75C2508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414B3C-0D64-401B-8738-C42AAEBE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00F8A6-27EC-45C7-8A82-468EF646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395A-4CEF-4E15-A1AE-081BA579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E204-C96D-4C79-BBE0-0DC413E1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5C7CFF-E178-433C-B57D-CA866FEB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521DC0-2AFD-4DD5-B538-72D0CF09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5E616E-7956-49C1-99D8-88350F68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B337C6-B675-4C04-B933-8C61A512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CBCBAB-BE44-4CBF-88A2-DF6D044B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C3957F-1CAF-4FB1-A8E8-E9F94062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FDC19C-74B7-409C-A471-E399A3DB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DA970D-C5B3-4FB1-A15C-C5A06FDF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54EE92-E0EA-47D5-AA72-566BBB45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554E56-97DD-4ED0-B387-CB1A169F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5714-44F9-4EEA-B409-B0573842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9E4938-D3EB-422E-8D8A-CF2FC6AE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6EC3CD-1547-4F6B-A4FB-E7256E6F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664BE5-03D9-4C40-9555-AF7F7424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006C68-228F-4823-9C5E-B206C164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23FA8D-04C1-4026-9545-B2FBD62D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F9F3DB-8BC3-49FC-961C-2693AB50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2B90FB-5734-4D8A-ADEC-0D1528CF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EB566A-888F-469F-8999-99103C98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9B2B88-6976-47CE-BDDE-516B96AA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9300A8-81AA-40F2-ADBE-B1EA5152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C11E-218B-4AC3-B695-10A571CA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05C26D-1D74-4BD7-BABB-9478BEE5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AC73BE-E038-4704-A66E-3AC633B5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FBF81E-6CEC-44E5-8441-B6EAE4E1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6DE32F-2324-47F6-9FC7-EF8FF031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FBFA69-8086-49C0-BE4D-A24D9493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17BF77-4DD0-4A28-B4FE-99F1A58C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FE3732-4697-4F42-A563-AA80D114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59FD9B-E04A-465D-A7F9-B45CD8AB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D1864E-5B7A-42CF-88E4-4315FC1C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8DC0E0-8139-498F-9E77-8DDA27A6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9A01-8EA9-4FD3-998B-D8030C96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3F5157-3DFD-44D1-BAFF-8BAD5B10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6C0303-A1C1-4CA2-83C6-679B90EC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53545A-371C-486A-B70C-2A5560E2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5DC8E1-E593-405D-89F7-C1602D29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4D40F0-442C-4B89-90CF-64601046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32AF60-D997-479C-80D5-4EA738B4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804EEE-8ED5-483B-989F-ADC7257F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87CE33-EF7E-4522-B231-CF3D0381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378D17-7422-4DFE-86FE-8EEEAAE9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6E1BAE-CB1A-4C20-B883-E9D043BD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644C-311D-49D9-9288-64891C10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DE42CD-B7B2-4936-9F00-547824F8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DECB45-C6E9-4AB5-B6AE-26ABD6D0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7D30CB-12FB-4B8D-A312-D22BC1FA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D4DC06-1E9A-4E38-B402-6636E46D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21C49F-F3AA-4290-8E22-028EAECE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A67FDE-721F-41C3-8ADD-3CCE9223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F9D27D-8B54-4A7F-9D77-30BDCA32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7F6624-1540-4A23-A8C1-FBE39649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0146A3-4139-41F5-A76C-D3C5E27B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645A5A-888E-48E7-ABF8-371654AA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CDECA-BEF0-4D94-8DD1-329A4DA2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D0D157-BEAC-4CAD-B2F9-9F75B5BF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9E7C31-E21D-4593-B334-4403FB85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96108B-6D26-412C-96C5-E7C3DB93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7C701-5986-49E0-AC93-B25EC878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3C78D-9B8B-4A8E-ACEB-C0ADBCF7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32071-1FDA-48BD-B618-1EA2277C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726E9-CCE7-420F-9DF7-A248EF98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25EF-C417-40BC-8AD0-2BC5D918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2E3D3-0D55-42D5-A82F-8A8FAA3F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829B3-301E-4DB6-B33A-C7366988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82F8C-831B-4D17-A502-E01F9F9F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EDC59-3B69-413A-A7BA-E4B9F1AC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58917-1977-4ACD-AA40-F1B7B96D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539AA-FDD6-4596-A38E-042E67F4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A0926-0AE9-4228-942F-EB9ADD4A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4C87F-35BD-441B-B870-1B7A87F9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43662-4E41-4744-A7A8-5A0B5E74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0A739-89DB-4E1F-92E0-22558B90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B0F5-075B-4B2D-BE39-EFBC8A15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8084E-7E7B-45DF-BF0C-61E0EDEF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0BBBB-BD57-41F1-A41B-A9DF1916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6F8AE-BD0B-4BD9-A893-282F4011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71A1C-9A1D-4CF7-8E5F-C6B366D9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F260E-4E47-4606-9C44-A4B28A98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9A7F5-86E8-4399-AAEA-62827BA1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617CA-D676-4896-8A90-E59E8502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AB4BB-AD76-4A67-81C6-038B05C5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57043-674C-4439-A91A-36FB2851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EB76A-17DB-405F-8623-6F595834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2289-9B38-478A-A9C0-74C63DFF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A38EA-A2EA-44C1-9B93-4AAC3A28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FCDF7-5A83-4961-AD76-D0FEB96D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00887-9664-439C-A384-FBFBF6A1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9DB27-5B63-458F-B639-F0566A2B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CF735-4ECA-4F52-A4A0-9067FA4E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7BCF3-14EE-45C6-86E3-D5AD16B5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8C0A4-A1D3-46F1-AECD-75D5E8FF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281ED-D3E7-41E4-B074-6EA5762C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D4B13-CD5F-4704-9681-17899EA9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B2943-02D8-4002-9F4E-7D49E807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6E2A-DF58-4340-94C5-9CF35B3C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D0D39-1F30-48F5-B130-A091F9C9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AA7BC-43D4-4B04-8DD7-EE83A229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DFF47-2D8C-4FA5-80B9-FC7D704F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9CAA9-AFFE-46B8-B032-29897934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24505-4C45-4506-8395-2C6CE532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36E20-9B74-4105-841C-A33A986C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29368-8790-44F0-A5BA-AB2D5B7F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F27DB-F69F-4A79-A827-0940F328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40F77-F722-48CA-B03B-0513137B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EC0FA-035B-4962-9616-075BBF69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AC00-1274-4BF8-9DED-A57CD6EE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CFEFF-A86D-4CB4-BC41-716E7BB7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D3D72-8EB9-4E2D-A76E-8A97FA88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11253-3926-4895-9ECB-9DF07C12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9D5AA-64CA-4C61-B6C1-B7BCCC42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3422C-2F6D-4AF7-B48B-A04742CB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A43E1-09A8-47D1-87BE-6A10CE4A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D0DD8-CF3B-4B30-94FA-36425BBB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EBC8B-AA46-42B4-88C2-CD139CA0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284FD-FEA7-4C39-B1C1-F8EC1E20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3E8A4-E375-416A-9A80-82620F58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5773-51D5-40F7-8C04-E2335B77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8700D-3352-4EC3-ADC9-9CCF19B5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4058D-063A-4F6E-9B21-1EAB104A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8BF2A-3492-44B9-A894-802FA35F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B5B67-0ABF-4EB6-949C-8927AAD6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C0F29-C50C-4A89-B1C7-9BC21221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8437F-5112-419F-BB81-CC3F91FA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A667E-6FD7-450B-91E3-74E1EA7F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F3E98-0C60-4302-B43A-EA08B378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A6269-03F7-4737-BB7D-37BE18E1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3986D-BAD8-4906-A1F6-0ED81E24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3D0B-8E61-4413-A37F-46FCAFC6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4C840-D3C4-4C6F-8BC4-0DBAA8D1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8C198-16ED-4767-8E47-CF41141E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BB5CA-A293-4E0C-9AC8-24489B93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DA722-4E90-4D00-88B0-F50424BC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E3798-A55C-4BD4-8483-15F17856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9C623-DD90-4890-9765-9F4C7DC4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227FC-E346-4FA4-93F2-8E491276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95231-361B-45E7-818B-DB91ABD3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A8E1B-D0E4-4D22-AF37-2A354752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380AC-FA6B-4296-8A2A-C9BEA952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C30A-AA64-4DF5-9E3F-5D11385AEB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D09B-20CC-474C-8C47-B45C294D4E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E06D-0DD5-44D3-B304-AB9DDA9A76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D2F9-CDA6-41D8-847E-3672A25ED5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FDCC-41AE-4F1E-954D-9C9637A96C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0595-CBC9-4CB2-9ED7-078EF787B9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938A-F9F5-4271-B79A-998EF338B7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C019-53AE-47FD-B76A-98BE89C00E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79DB-5EA1-42A9-980F-A5662B19EA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084F-6284-4837-B841-EE44228A7A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875E-D6F0-48E2-A2FF-BD408CA445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9F55-D890-4725-95B9-CE33A152E8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057F-7F22-42C9-B4E0-7AE9FE090F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2309-C680-4C4C-8485-E969B52A97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797D-873C-4A1F-8FC5-002CD44623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BDF3-060F-4258-8E66-1795B6784D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E8FA-27B3-4F45-8754-D611ED1477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60C3-8BA4-4D59-AE2D-9556D22FAC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C381-7892-491A-BE0E-D1B407AAA9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E513-4991-4B01-AAD2-D9BC404242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7776-DA16-4FF9-B619-B6FD29FDA8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D364-7C9C-4CB7-9298-083B6588F5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56F9-7F20-4A0C-A840-9A0A700D86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8A4C-7E41-41CA-A658-35FBB402F2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816B-312B-49F9-AB24-ACFE8337FB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BFEB-2D35-4725-84A3-5564E68587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B2B4-3265-43E2-A589-38AF4A36E0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2D8F-E787-42BC-88DD-F14B83A7C4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78F4-6513-40EE-8268-E72A9AEFE8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FF65-790F-408A-8774-13ECE7F026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88C3-7575-4182-BA46-E25D3CE4C6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33DB-F04D-4E67-B34C-DAAB8EA956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50F2-FAC1-4D11-AB40-124AC75CB9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3BD4-4330-49E7-A81F-9E0925F738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672D-1E83-4695-9C73-06B1A4FCD3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7DE9-6FC5-415C-BB63-2F2340EDB8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4762-0147-463E-9BA9-0055EC6439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8AB4-19F2-41BB-A893-7D2B47912A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3EAA-CB6F-4AB2-9D07-3D3D9CE098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5277-D1CA-448C-84E1-16C42E4C2F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890720" y="2886120"/>
            <a:ext cx="53625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69633" descr=""/>
          <p:cNvPicPr/>
          <p:nvPr/>
        </p:nvPicPr>
        <p:blipFill>
          <a:blip r:embed="rId1"/>
          <a:stretch/>
        </p:blipFill>
        <p:spPr>
          <a:xfrm>
            <a:off x="638280" y="1438200"/>
            <a:ext cx="7867440" cy="39816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7993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68609" descr=""/>
          <p:cNvPicPr/>
          <p:nvPr/>
        </p:nvPicPr>
        <p:blipFill>
          <a:blip r:embed="rId1"/>
          <a:stretch/>
        </p:blipFill>
        <p:spPr>
          <a:xfrm>
            <a:off x="157320" y="1197000"/>
            <a:ext cx="8829360" cy="2238480"/>
          </a:xfrm>
          <a:prstGeom prst="rect">
            <a:avLst/>
          </a:prstGeom>
          <a:ln w="0">
            <a:noFill/>
          </a:ln>
        </p:spPr>
      </p:pic>
      <p:pic>
        <p:nvPicPr>
          <p:cNvPr id="955" name="图片 68610" descr=""/>
          <p:cNvPicPr/>
          <p:nvPr/>
        </p:nvPicPr>
        <p:blipFill>
          <a:blip r:embed="rId2"/>
          <a:stretch/>
        </p:blipFill>
        <p:spPr>
          <a:xfrm>
            <a:off x="1195560" y="3467160"/>
            <a:ext cx="6752880" cy="2409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3995640" y="1585800"/>
            <a:ext cx="936720" cy="4939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8136000" y="1628640"/>
            <a:ext cx="936720" cy="4939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4384800" y="2449440"/>
            <a:ext cx="936360" cy="493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6"/>
          <a:stretch/>
        </p:blipFill>
        <p:spPr>
          <a:xfrm>
            <a:off x="8107200" y="2463840"/>
            <a:ext cx="936720" cy="4935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7"/>
          <a:stretch/>
        </p:blipFill>
        <p:spPr>
          <a:xfrm>
            <a:off x="3909960" y="3933720"/>
            <a:ext cx="936720" cy="4939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8"/>
          <a:stretch/>
        </p:blipFill>
        <p:spPr>
          <a:xfrm>
            <a:off x="7020000" y="3948120"/>
            <a:ext cx="936720" cy="493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9"/>
          <a:stretch/>
        </p:blipFill>
        <p:spPr>
          <a:xfrm>
            <a:off x="3808440" y="4869000"/>
            <a:ext cx="936720" cy="4935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10"/>
          <a:stretch/>
        </p:blipFill>
        <p:spPr>
          <a:xfrm>
            <a:off x="7207200" y="4869000"/>
            <a:ext cx="936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09600" y="838080"/>
            <a:ext cx="8524800" cy="56865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300720" y="4019400"/>
            <a:ext cx="2232000" cy="4939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476360" y="4883040"/>
            <a:ext cx="1943280" cy="493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995640" y="5748480"/>
            <a:ext cx="19432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352440" y="1119240"/>
            <a:ext cx="843912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8373" descr=""/>
          <p:cNvPicPr/>
          <p:nvPr/>
        </p:nvPicPr>
        <p:blipFill>
          <a:blip r:embed="rId1"/>
          <a:stretch/>
        </p:blipFill>
        <p:spPr>
          <a:xfrm>
            <a:off x="590400" y="696960"/>
            <a:ext cx="7963200" cy="5972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1042920" y="1989000"/>
            <a:ext cx="748980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1763640" y="3860640"/>
            <a:ext cx="115272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1042920" y="5157720"/>
            <a:ext cx="6913800" cy="9352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1042920" y="6208560"/>
            <a:ext cx="65534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7352" descr=""/>
          <p:cNvPicPr/>
          <p:nvPr/>
        </p:nvPicPr>
        <p:blipFill>
          <a:blip r:embed="rId1"/>
          <a:stretch/>
        </p:blipFill>
        <p:spPr>
          <a:xfrm>
            <a:off x="290520" y="1523880"/>
            <a:ext cx="8562960" cy="38102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826920" y="3645000"/>
            <a:ext cx="8137800" cy="9363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826920" y="4724280"/>
            <a:ext cx="77058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6324" descr=""/>
          <p:cNvPicPr/>
          <p:nvPr/>
        </p:nvPicPr>
        <p:blipFill>
          <a:blip r:embed="rId1"/>
          <a:stretch/>
        </p:blipFill>
        <p:spPr>
          <a:xfrm>
            <a:off x="304920" y="1833480"/>
            <a:ext cx="8534160" cy="3191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826920" y="3773520"/>
            <a:ext cx="5977080" cy="493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755640" y="4365720"/>
            <a:ext cx="5977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5300" descr=""/>
          <p:cNvPicPr/>
          <p:nvPr/>
        </p:nvPicPr>
        <p:blipFill>
          <a:blip r:embed="rId1"/>
          <a:stretch/>
        </p:blipFill>
        <p:spPr>
          <a:xfrm>
            <a:off x="281160" y="1233360"/>
            <a:ext cx="8581680" cy="43912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755640" y="3313080"/>
            <a:ext cx="8064360" cy="4939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539640" y="3933720"/>
            <a:ext cx="8064720" cy="493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539640" y="4508640"/>
            <a:ext cx="8064720" cy="493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468360" y="5084640"/>
            <a:ext cx="8064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4276" descr=""/>
          <p:cNvPicPr/>
          <p:nvPr/>
        </p:nvPicPr>
        <p:blipFill>
          <a:blip r:embed="rId1"/>
          <a:stretch/>
        </p:blipFill>
        <p:spPr>
          <a:xfrm>
            <a:off x="271440" y="1562040"/>
            <a:ext cx="86011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2231" descr=""/>
          <p:cNvPicPr/>
          <p:nvPr/>
        </p:nvPicPr>
        <p:blipFill>
          <a:blip r:embed="rId1"/>
          <a:stretch/>
        </p:blipFill>
        <p:spPr>
          <a:xfrm>
            <a:off x="561960" y="1238400"/>
            <a:ext cx="8020080" cy="43812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611280" y="1297080"/>
            <a:ext cx="5329080" cy="4935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684360" y="1873080"/>
            <a:ext cx="2950920" cy="493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4067280" y="1859040"/>
            <a:ext cx="295092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611280" y="2506680"/>
            <a:ext cx="6840360" cy="9223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539640" y="3500280"/>
            <a:ext cx="6840720" cy="9223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7"/>
          <a:stretch/>
        </p:blipFill>
        <p:spPr>
          <a:xfrm>
            <a:off x="539640" y="4522680"/>
            <a:ext cx="460872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8"/>
          <a:stretch/>
        </p:blipFill>
        <p:spPr>
          <a:xfrm>
            <a:off x="468360" y="5099040"/>
            <a:ext cx="8280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04:57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